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D61-DC51-460D-ADDB-3790D4F11BC2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A22F-B930-4AEB-9D27-BA4F696FCCA1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esrl.noaa.gov/gmd/obop/mlo/pictures/sunsetmaunaloa1.jpg" TargetMode="External"/><Relationship Id="rId2" Type="http://schemas.openxmlformats.org/officeDocument/2006/relationships/hyperlink" Target="http://www.esrl.noaa.gov/gmd/obop/mlo/pictures/scripts.jpg" TargetMode="External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1170-AA71-4833-AC1A-44CDB5597573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3486-727C-45A0-9513-93E00D9B0FA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rl.noaa.gov/gmd/obop/mlo/pictures/sunsetmaunaloa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srl.noaa.gov/gmd/obop/mlo/pictures/scrip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srl.noaa.gov/gmd/obop/mlo/pictures/sunsensor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12F-F041-4B3C-A26F-25BFC17E3362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ing DOI, that indicates the version of the Mauna Loa Data Product and how to obtain a copy of that produ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available at CDIAC so that interested users can discover the Mauna Loa CO2 record along with other related Earth science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A15F-7689-40D0-BC95-D83FA3C0F17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ne example, a consortium that is developing a Data Management Planning Online Tool. The tool “walks” scientists through the process of developing a concise, but comprehensive data management plan that could enable good stewardship of data and meet requirements of sponsors and home institutions. Contains a number of resource documents including other example data management plans and other information on NSF’s requirements for a D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19D-D674-4C37-B602-3A87A33B4E5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969-3D4E-4D42-920B-D5C9DDF36C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MP is a formal document that outlines what you will do with your data during and after your research.  This ensures that your data will be safe now and in the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B99C-86B8-45A4-ABC3-1EDD21BAAE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4F3D-71C6-4313-863D-0900AB16A45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of January 2011 NSF is now requiring 2 page data management plan to be included in all submitted proposals. This is in addition to the 15 pages for the propo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G = award and administration guide; see 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89C-91B7-4689-A75A-17AEC08A67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types of data that may be produced by a research study. Consider this list when describing data that will be produced by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0C9-DC61-43FB-80A8-FFFC4F09A8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adata Content and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data provides important information about the data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reated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content of the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c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it geographical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ere the data develo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records and captures critical information about a data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Metadata includes descriptions of temporal and spatial details, instrumen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Metadata is the documentation and reporting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42DF-8554-40AF-954A-8B6A8DB3DA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ligations for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cribe any requirements you might have for sharing as a result of your funding, your institution, your professional society, etc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any legal obligations for sharing dat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 with your institution. They often have information available for researchers regarding sharing obligations within and beyond the institu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ails of shar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long will the data be availabl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will that access be granted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o will have access to those data? How will they gain access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ill the data collector/creator/PI have exclusive rights to data for a certain period of time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thical/privacy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Aare data about humans? If so, address human subjects research protocol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ther example of ethical/privacy concerns include locations of sensitive habitats or organism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formed consent issu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privacy will be protected along with participant confidentiality arrang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6B6B-88CD-4412-B29A-21FC4FA346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data should be p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raw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rivatives can also be preserved but should be linked to raw data with workflows and/or in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be preser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chives are commonly used in your commun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ves last longer than lab/personal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o see if institution has repository available to researc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re any organizations or societies that might house your dat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uccession plans if the expected place for archiving goes out of exis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transformations/formats. Contact the data repository you will use early in the project to be sure you have data in correct format. This will save time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here is a person assigned responsibility for maintaining contact information for the archive. This is especially important if restrictions on data use require that they contact the data collectors before reu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A2B-2B90-434B-8F80-1DD4E45C31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F834-F5B6-4BF5-82D4-6FE94A25B6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99AE-B147-4737-996C-05AEF5140D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8974-9120-47C1-86EF-376BE34AD6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CE5A-6041-41D0-A2F1-532D0C80924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CA11-8B75-461A-AA2A-7A24CDE528F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242B-E5DF-4D12-82DE-26EE12AA397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5A27-2F2B-4318-9C5A-13B702A5BB2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5156-4274-48E1-97AF-5F7B000EABD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B96F-094E-4419-937B-4539FD34E9F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C87B-AE3D-4895-B164-4EB0755EF99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B88C-6D80-4B39-B47A-4B778E4D63B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3F94-BCBC-4F78-A08E-F34096677AF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E8F-7AC2-4327-A2CF-487F3B20CC64}" type="slidenum">
              <a:rPr b="0" lang="en-US" sz="1200" spc="-1" strike="noStrike">
                <a:solidFill>
                  <a:srgbClr val="898989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7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1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5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09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34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4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rippsco2.ucsd.edu/" TargetMode="External"/><Relationship Id="rId2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24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mp.data.jhu.edu/sites/default/files/Questionnaire.doc" TargetMode="External"/><Relationship Id="rId3" Type="http://schemas.openxmlformats.org/officeDocument/2006/relationships/hyperlink" Target="http://libraries.mit.edu/guides/subjects/data-management/index.html" TargetMode="External"/><Relationship Id="rId4" Type="http://schemas.openxmlformats.org/officeDocument/2006/relationships/hyperlink" Target="http://www.dcc.ac.uk/resources/data-management-plans" TargetMode="External"/><Relationship Id="rId5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4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Data Management 101 for Earth Scientists</a:t>
            </a:r>
            <a:br>
              <a:rPr sz="2800"/>
            </a:br>
            <a:br>
              <a:rPr sz="2800"/>
            </a:br>
            <a:r>
              <a:rPr b="1" lang="en-US" sz="4800" spc="-1" strike="noStrike">
                <a:solidFill>
                  <a:srgbClr val="218595"/>
                </a:solidFill>
                <a:latin typeface="Helvetica Neue Light"/>
              </a:rPr>
              <a:t>Data Management Plans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bert Cook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nvironmental Sciences Divisio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ak Ridge National Laborator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1182" name="Picture 5" descr=""/>
          <p:cNvPicPr/>
          <p:nvPr/>
        </p:nvPicPr>
        <p:blipFill>
          <a:blip r:embed="rId1"/>
          <a:stretch/>
        </p:blipFill>
        <p:spPr>
          <a:xfrm>
            <a:off x="635040" y="790272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25" descr="DataONE_South America LOGO.tif"/>
          <p:cNvPicPr/>
          <p:nvPr/>
        </p:nvPicPr>
        <p:blipFill>
          <a:blip r:embed="rId3"/>
          <a:stretch/>
        </p:blipFill>
        <p:spPr>
          <a:xfrm>
            <a:off x="9186840" y="8194680"/>
            <a:ext cx="3411720" cy="8128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6" descr=""/>
          <p:cNvPicPr/>
          <p:nvPr/>
        </p:nvPicPr>
        <p:blipFill>
          <a:blip r:embed="rId4"/>
          <a:stretch/>
        </p:blipFill>
        <p:spPr>
          <a:xfrm>
            <a:off x="7248600" y="7896240"/>
            <a:ext cx="16923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71320" y="5335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Helvetica Neue Light"/>
              </a:rPr>
              <a:t>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Mauna Loa CO</a:t>
            </a:r>
            <a:r>
              <a:rPr b="0" lang="en-US" sz="4400" spc="-1" strike="noStrike" baseline="-25000">
                <a:solidFill>
                  <a:srgbClr val="218595"/>
                </a:solidFill>
                <a:latin typeface="Helvetica Neue Light"/>
              </a:rPr>
              <a:t>2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 Record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2" name="TextBox 4"/>
          <p:cNvSpPr/>
          <p:nvPr/>
        </p:nvSpPr>
        <p:spPr>
          <a:xfrm>
            <a:off x="635040" y="2438280"/>
            <a:ext cx="57150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xample, based on the work of CD Keeling &amp; Colleag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tudy the controls on the concentration of atmospheric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Helvetica Neu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920880" indent="-46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high precision and accuracy measurements. 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3" name="Picture 7" descr=""/>
          <p:cNvPicPr/>
          <p:nvPr/>
        </p:nvPicPr>
        <p:blipFill>
          <a:blip r:embed="rId1"/>
          <a:stretch/>
        </p:blipFill>
        <p:spPr>
          <a:xfrm>
            <a:off x="7721640" y="2133720"/>
            <a:ext cx="4792680" cy="32763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9" descr=""/>
          <p:cNvPicPr/>
          <p:nvPr/>
        </p:nvPicPr>
        <p:blipFill>
          <a:blip r:embed="rId2"/>
          <a:stretch/>
        </p:blipFill>
        <p:spPr>
          <a:xfrm>
            <a:off x="482760" y="5867280"/>
            <a:ext cx="7010280" cy="2438640"/>
          </a:xfrm>
          <a:prstGeom prst="rect">
            <a:avLst/>
          </a:prstGeom>
          <a:ln w="0">
            <a:noFill/>
          </a:ln>
        </p:spPr>
      </p:pic>
      <p:sp>
        <p:nvSpPr>
          <p:cNvPr id="1235" name="Rectangle 11"/>
          <p:cNvSpPr/>
          <p:nvPr/>
        </p:nvSpPr>
        <p:spPr>
          <a:xfrm>
            <a:off x="0" y="9045720"/>
            <a:ext cx="1262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https://www.dataone.org/sites/all/documents/DMP_MaunaLoa_Formatted.pdf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36" name="Picture 12" descr="DataONE_South America LOGO.tif"/>
          <p:cNvPicPr/>
          <p:nvPr/>
        </p:nvPicPr>
        <p:blipFill>
          <a:blip r:embed="rId3"/>
          <a:stretch/>
        </p:blipFill>
        <p:spPr>
          <a:xfrm>
            <a:off x="254160" y="8610480"/>
            <a:ext cx="1912680" cy="45720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3" descr=""/>
          <p:cNvPicPr/>
          <p:nvPr/>
        </p:nvPicPr>
        <p:blipFill>
          <a:blip r:embed="rId4"/>
          <a:stretch/>
        </p:blipFill>
        <p:spPr>
          <a:xfrm>
            <a:off x="7873920" y="6324480"/>
            <a:ext cx="4527720" cy="1575000"/>
          </a:xfrm>
          <a:prstGeom prst="rect">
            <a:avLst/>
          </a:prstGeom>
          <a:ln w="0">
            <a:noFill/>
          </a:ln>
        </p:spPr>
      </p:pic>
      <p:sp>
        <p:nvSpPr>
          <p:cNvPr id="1238" name="TextBox 14"/>
          <p:cNvSpPr/>
          <p:nvPr/>
        </p:nvSpPr>
        <p:spPr>
          <a:xfrm>
            <a:off x="8026560" y="7924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Photos courtesy of NOAA GMD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519-68EF-44D3-9E14-71A72F1C5E9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571680" y="2323800"/>
            <a:ext cx="1187424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llected continuously at five towers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897480" indent="-385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 central tower and four towers located at compass quadrants.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Raw data files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contain continuously measured CO2 concentrations, calibration standards, references standards, daily check standards, and blanks. 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lvl="1" marL="897480" indent="-385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te conditions will also be noted and retained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06060"/>
                </a:solidFill>
                <a:latin typeface="Helvetica Neue"/>
              </a:rPr>
              <a:t>Final data product </a:t>
            </a: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will consist of 5-minute, 15-minute, hourly, daily, and monthly average atmospheric concentration of CO2, in mole fraction in water-vapor-free air measured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06060"/>
                </a:solidFill>
                <a:latin typeface="Helvetica Neue"/>
              </a:rPr>
              <a:t>Data in comma-separated-values in plain ASCII format,</a:t>
            </a: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  <a:p>
            <a:pPr marL="511560" indent="-511560">
              <a:lnSpc>
                <a:spcPct val="8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2" name="Picture 4" descr=""/>
          <p:cNvPicPr/>
          <p:nvPr/>
        </p:nvPicPr>
        <p:blipFill>
          <a:blip r:embed="rId1"/>
          <a:stretch/>
        </p:blipFill>
        <p:spPr>
          <a:xfrm>
            <a:off x="7493040" y="7543800"/>
            <a:ext cx="4527360" cy="15746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3" name="TextBox 5"/>
          <p:cNvSpPr/>
          <p:nvPr/>
        </p:nvSpPr>
        <p:spPr>
          <a:xfrm>
            <a:off x="787320" y="91440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Neue Light"/>
              </a:rPr>
              <a:t>Photos courtesy of NOAA GMD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4" name="Picture 6" descr=""/>
          <p:cNvPicPr/>
          <p:nvPr/>
        </p:nvPicPr>
        <p:blipFill>
          <a:blip r:embed="rId2"/>
          <a:stretch/>
        </p:blipFill>
        <p:spPr>
          <a:xfrm>
            <a:off x="819000" y="7467480"/>
            <a:ext cx="4845240" cy="168444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124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2C17-6A2C-4649-A695-0C42736C7FED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571680" y="2324160"/>
            <a:ext cx="73022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contextual information about the data in a text based document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ISO 19115 standard metadata in an xml file. 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formats provide a full explanation of the data (text format) and ensure compatibility with international standards (xml format)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48" name="Picture 4" descr="AA002733.png"/>
          <p:cNvPicPr/>
          <p:nvPr/>
        </p:nvPicPr>
        <p:blipFill>
          <a:blip r:embed="rId1"/>
          <a:stretch/>
        </p:blipFill>
        <p:spPr>
          <a:xfrm>
            <a:off x="9342360" y="3936960"/>
            <a:ext cx="2113200" cy="13208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5" descr="j0316779.jpg"/>
          <p:cNvPicPr/>
          <p:nvPr/>
        </p:nvPicPr>
        <p:blipFill>
          <a:blip r:embed="rId2"/>
          <a:stretch/>
        </p:blipFill>
        <p:spPr>
          <a:xfrm>
            <a:off x="9245520" y="5410080"/>
            <a:ext cx="2629080" cy="1730520"/>
          </a:xfrm>
          <a:prstGeom prst="rect">
            <a:avLst/>
          </a:prstGeom>
          <a:ln w="0">
            <a:noFill/>
          </a:ln>
        </p:spPr>
      </p:pic>
      <p:sp>
        <p:nvSpPr>
          <p:cNvPr id="125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C97-935C-4F27-9604-CD1E10DF614F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571320" y="2323800"/>
            <a:ext cx="11861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final data product released when the recalibration of standard gasses has been completed and the data have been prepared (~six months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o period of exclusive use by the data collectors. 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rs can access documentation and final monthly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iles via the Scripps CO</a:t>
            </a:r>
            <a:r>
              <a:rPr b="0" lang="en-US" sz="3400" spc="-1" strike="noStrike" baseline="-25000">
                <a:solidFill>
                  <a:srgbClr val="606060"/>
                </a:solidFill>
                <a:latin typeface="Helvetica Neue"/>
              </a:rPr>
              <a:t>2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Program website            (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scrippsco2.ucsd.edu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).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aw data will be maintained and made available on request at no charg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5693-9AB5-4188-8DDA-1E65CEA23B77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High quality final data product will be available for use by the research and policy communities in perpetuity.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Raw supporting data will be available for use by researchers to confirm the quality of the Mauna Loa Record.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Long-term stewardship and curation at the Carbon Dioxide Information and Analysis Center (CDIAC), Oak Ridge National Laboratory.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tandardized metadata record will be added to the metadata record database at CDIAC,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ata product citation, including DOI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Keeling, CD, 2004.  Atmospheric CO2 Concentrations - Mauna Loa Observatory, Hawaii, 1958-2003.  Numeric Data Package.  Available on-line [http://cdiac.ornl.gov] Carbon Dioxide Information Analysis Center (CDIAC), Oak Ridge National Laboratory, Oak Ridge, TN, USA.  doi:  10.3334/CDIAC/atg.ndp001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  <a:p>
            <a:pPr lvl="1" marL="846000" indent="-44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06060"/>
                </a:solidFill>
                <a:latin typeface="Helvetica Neue"/>
              </a:rPr>
              <a:t>Keeling, RF, SC Piper, AF Bollenbacher and JS Walker, 2009. Atmospheric CO2 records from sites in the SIO air sampling network. In Trends: A Compendium of Data on Global Change. Carbon Dioxide Information Analysis Center, Oak Ridge National Laboratory, Oak Ridge,TN, USA. doi: 10.3334/CDIAC/atg.035</a:t>
            </a:r>
            <a:endParaRPr b="0" lang="en-US" sz="19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8595"/>
                </a:solidFill>
                <a:latin typeface="Calibri"/>
              </a:rPr>
              <a:t>Mauna Loa Example Data Management Plan</a:t>
            </a:r>
            <a:br>
              <a:rPr sz="2400"/>
            </a:b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B09-341F-498A-A279-56EE4D472FB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Data Management Planning Too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58" name="Picture 2" descr=""/>
          <p:cNvPicPr/>
          <p:nvPr/>
        </p:nvPicPr>
        <p:blipFill>
          <a:blip r:embed="rId1"/>
          <a:stretch/>
        </p:blipFill>
        <p:spPr>
          <a:xfrm>
            <a:off x="1925640" y="1952640"/>
            <a:ext cx="9323280" cy="6989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259" name="Picture 5" descr="UVa-library.png"/>
          <p:cNvPicPr/>
          <p:nvPr/>
        </p:nvPicPr>
        <p:blipFill>
          <a:blip r:embed="rId2"/>
          <a:stretch/>
        </p:blipFill>
        <p:spPr>
          <a:xfrm>
            <a:off x="3975120" y="9361440"/>
            <a:ext cx="682560" cy="36684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6" descr="smithsonian_logo.gif"/>
          <p:cNvPicPr/>
          <p:nvPr/>
        </p:nvPicPr>
        <p:blipFill>
          <a:blip r:embed="rId3"/>
          <a:stretch/>
        </p:blipFill>
        <p:spPr>
          <a:xfrm>
            <a:off x="8771040" y="9398160"/>
            <a:ext cx="2468520" cy="30312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7" descr="uiuc.gif"/>
          <p:cNvPicPr/>
          <p:nvPr/>
        </p:nvPicPr>
        <p:blipFill>
          <a:blip r:embed="rId4"/>
          <a:stretch/>
        </p:blipFill>
        <p:spPr>
          <a:xfrm>
            <a:off x="6940440" y="9420120"/>
            <a:ext cx="1700280" cy="28116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5" descr=""/>
          <p:cNvPicPr/>
          <p:nvPr/>
        </p:nvPicPr>
        <p:blipFill>
          <a:blip r:embed="rId5"/>
          <a:stretch/>
        </p:blipFill>
        <p:spPr>
          <a:xfrm>
            <a:off x="558720" y="9361440"/>
            <a:ext cx="1206720" cy="26208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6" descr=""/>
          <p:cNvPicPr/>
          <p:nvPr/>
        </p:nvPicPr>
        <p:blipFill>
          <a:blip r:embed="rId6"/>
          <a:stretch/>
        </p:blipFill>
        <p:spPr>
          <a:xfrm>
            <a:off x="11379240" y="9415440"/>
            <a:ext cx="1101600" cy="26208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10" descr="ucsd_logo.png"/>
          <p:cNvPicPr/>
          <p:nvPr/>
        </p:nvPicPr>
        <p:blipFill>
          <a:blip r:embed="rId7"/>
          <a:stretch/>
        </p:blipFill>
        <p:spPr>
          <a:xfrm>
            <a:off x="5862600" y="9361440"/>
            <a:ext cx="976320" cy="32076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11" descr="ucla_logo.png"/>
          <p:cNvPicPr/>
          <p:nvPr/>
        </p:nvPicPr>
        <p:blipFill>
          <a:blip r:embed="rId8"/>
          <a:stretch/>
        </p:blipFill>
        <p:spPr>
          <a:xfrm>
            <a:off x="4789440" y="9398160"/>
            <a:ext cx="1014480" cy="263520"/>
          </a:xfrm>
          <a:prstGeom prst="rect">
            <a:avLst/>
          </a:prstGeom>
          <a:ln w="0">
            <a:noFill/>
          </a:ln>
        </p:spPr>
      </p:pic>
      <p:grpSp>
        <p:nvGrpSpPr>
          <p:cNvPr id="1266" name="Group 12"/>
          <p:cNvGrpSpPr/>
          <p:nvPr/>
        </p:nvGrpSpPr>
        <p:grpSpPr>
          <a:xfrm>
            <a:off x="1844640" y="9375840"/>
            <a:ext cx="1997280" cy="304560"/>
            <a:chOff x="1844640" y="9375840"/>
            <a:chExt cx="1997280" cy="304560"/>
          </a:xfrm>
        </p:grpSpPr>
        <p:pic>
          <p:nvPicPr>
            <p:cNvPr id="1267" name="Picture 2" descr=""/>
            <p:cNvPicPr/>
            <p:nvPr/>
          </p:nvPicPr>
          <p:blipFill>
            <a:blip r:embed="rId9"/>
            <a:stretch/>
          </p:blipFill>
          <p:spPr>
            <a:xfrm>
              <a:off x="2801160" y="9375840"/>
              <a:ext cx="1040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icture 2" descr=""/>
            <p:cNvPicPr/>
            <p:nvPr/>
          </p:nvPicPr>
          <p:blipFill>
            <a:blip r:embed="rId10"/>
            <a:stretch/>
          </p:blipFill>
          <p:spPr>
            <a:xfrm>
              <a:off x="1844640" y="9375840"/>
              <a:ext cx="8812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DF21-C4B2-45B3-9757-0BA5286F607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71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For a detailed questionnaire with most of the issues you may need to address in an NSF data management plan see: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2"/>
              </a:rPr>
              <a:t>http://dmp.data.jhu.edu/sites/default/files/Questionnaire.doc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MIT Libraries have a fairly comprehensive site about data management and publishing in general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libraries.mit.edu/guides/subjects/data-management/index.htm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he Digital Curation Center in the UK has a variety of information on data management plans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4"/>
              </a:rPr>
              <a:t>http://www.dcc.ac.uk/resources/data-management-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BF7E-70C8-43D9-B2B0-CA37410E5DE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650880" y="22618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a data management plan (DMP)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y prepare a DMP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ponents of a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ample of a NSF DM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730080" indent="-73008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Data Management Planning Topic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BDB-6E75-4953-9B67-B90078748E5E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650880" y="2015640"/>
            <a:ext cx="11090160" cy="610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Calibri"/>
              </a:rPr>
              <a:t>What is a DMP?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 document that describes what you will do with your data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uring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d</a:t>
            </a:r>
            <a:r>
              <a:rPr b="0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after </a:t>
            </a: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your research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“</a:t>
            </a: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A goal without a plan is just a wish.”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Antoine de Saint-Exupery (1900 – 1944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191" name="Picture 6" descr="DataONE 4.jpg"/>
          <p:cNvPicPr/>
          <p:nvPr/>
        </p:nvPicPr>
        <p:blipFill>
          <a:blip r:embed="rId1"/>
          <a:stretch/>
        </p:blipFill>
        <p:spPr>
          <a:xfrm>
            <a:off x="6985080" y="5113440"/>
            <a:ext cx="4784760" cy="3116160"/>
          </a:xfrm>
          <a:prstGeom prst="rect">
            <a:avLst/>
          </a:prstGeom>
          <a:ln w="0">
            <a:noFill/>
          </a:ln>
        </p:spPr>
      </p:pic>
      <p:sp>
        <p:nvSpPr>
          <p:cNvPr id="1192" name="Content Placeholder 2"/>
          <p:cNvSpPr/>
          <p:nvPr/>
        </p:nvSpPr>
        <p:spPr>
          <a:xfrm>
            <a:off x="330120" y="4038480"/>
            <a:ext cx="59436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9970920" y="929628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A461-1B7E-42D2-B9DB-443EC8BA8EA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Helvetica Neue Light"/>
              </a:rPr>
              <a:t>Value of a Data Management Pla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863280" y="2514240"/>
            <a:ext cx="120236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tional funding agencies have data sharing polices and requireme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cientific journals  (Nature, Science, and PLoS)  have sharing requirements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shared, common data set may help researchers collaborate and accelerate discoveries  (NY Times, 2010).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Helvetica Neue"/>
              </a:rPr>
              <a:t>For the researcher: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s organize dat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ultivate quality and efficienc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elp with preserving and shar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6" name="AutoShape 2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7" name="AutoShape 4"/>
          <p:cNvSpPr/>
          <p:nvPr/>
        </p:nvSpPr>
        <p:spPr>
          <a:xfrm>
            <a:off x="111240" y="-1420920"/>
            <a:ext cx="3114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8" name="TextBox 11"/>
          <p:cNvSpPr/>
          <p:nvPr/>
        </p:nvSpPr>
        <p:spPr>
          <a:xfrm>
            <a:off x="-24840" y="9406080"/>
            <a:ext cx="4643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anks to Jeffery Loo, Chemical Informatics Librarian, UCB 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BB4-C100-415F-934B-5A67F2596596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0" name="TextBox 5"/>
          <p:cNvSpPr/>
          <p:nvPr/>
        </p:nvSpPr>
        <p:spPr>
          <a:xfrm>
            <a:off x="122400" y="763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Data Management 101 for Earth Scientists 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740880" y="2749320"/>
            <a:ext cx="117046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data management and sharing of the products of research.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posals must include a supplementary document of no more than two pages labeled 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“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 Management Plan</a:t>
            </a:r>
            <a:r>
              <a:rPr b="1" lang="ja-JP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”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.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is supplement should describe how the proposal will conform to NSF policy on the dissemination and sharing of research results (in AAG), and may include: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ypes of data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samples, physical collections, software, curriculum materials, and other materials to be produced in the course of the project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the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to be used for data and metadata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ormat and content (where existing standards are absent or deemed inadequate, this should be documented along with any proposed solutions or remedies)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for access and shar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cluding provisions for appropriate protection of privacy, confidentiality, security, intellectual property, or other rights or requirement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olicies and 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rovisions for re-use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, re-distribution, and the production of derivatives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 </a:t>
            </a:r>
            <a:r>
              <a:rPr b="1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lans for archiving </a:t>
            </a:r>
            <a:r>
              <a:rPr b="0" lang="en-US" sz="23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ata, samples, and other research products, and for preservation of access to them</a:t>
            </a:r>
            <a:endParaRPr b="0" lang="en-US" sz="23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NSF DMP Requiremen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3" name="TextBox 4"/>
          <p:cNvSpPr/>
          <p:nvPr/>
        </p:nvSpPr>
        <p:spPr>
          <a:xfrm>
            <a:off x="482760" y="2305080"/>
            <a:ext cx="598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From Grant Proposal Guidelines: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4" name="Picture 5" descr=""/>
          <p:cNvPicPr/>
          <p:nvPr/>
        </p:nvPicPr>
        <p:blipFill>
          <a:blip r:embed="rId1"/>
          <a:stretch/>
        </p:blipFill>
        <p:spPr>
          <a:xfrm>
            <a:off x="7591320" y="32688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1205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7E2E-DE5D-4CF2-9AA4-33737492917B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650880" y="2249280"/>
            <a:ext cx="11702880" cy="643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1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Description of data to be produced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perimental, Observational, Raw or derived,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hysical collections, Models, Images, etc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2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acquir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 Where?  Method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3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proces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oftware used, Algorithms, Workflow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4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ile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sv, tab-delimited, naming conventi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5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Quality assurance &amp; quality contro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6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xisting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f existing data are used, what are its origins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ill your data be combined with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at is the relationship between your data and existing data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1.7  </a:t>
            </a:r>
            <a:r>
              <a:rPr b="1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data will be managed in short-term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Version control, Backing up, Security &amp; protection,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33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o will be responsible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58360" y="969480"/>
            <a:ext cx="1170468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1. Information About Data &amp; Data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08" name="Picture 4" descr="AA002733.png"/>
          <p:cNvPicPr/>
          <p:nvPr/>
        </p:nvPicPr>
        <p:blipFill>
          <a:blip r:embed="rId1"/>
          <a:stretch/>
        </p:blipFill>
        <p:spPr>
          <a:xfrm>
            <a:off x="9136080" y="2556000"/>
            <a:ext cx="3005280" cy="187776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5" descr="j0316779.jpg"/>
          <p:cNvPicPr/>
          <p:nvPr/>
        </p:nvPicPr>
        <p:blipFill>
          <a:blip r:embed="rId2"/>
          <a:stretch/>
        </p:blipFill>
        <p:spPr>
          <a:xfrm>
            <a:off x="9328320" y="4657680"/>
            <a:ext cx="2763720" cy="181944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6B8A-0DC2-4E03-A11D-D8F3806E7AD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650880" y="2420640"/>
            <a:ext cx="11106000" cy="718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etadata is the documentation describing all aspects of the data (e.g., who, why, what, when, where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1  What metadata are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ny details that make data understandable and usabl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2  How metadata will be created and/or captu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Lab notebooks? GPS units?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Auto-saved on instrument? Manually entered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2.3   What format will be used for the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Standards for community (EML, ISO 19115, etc.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Justification for format chos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2. Metadata Content &amp;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B8F1-00B7-4DA8-9F90-74408270E2D1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1  Obligations for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, institution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2  Details of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long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When?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access can be gained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3  Ethical/privacy issues with data shar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4  Intellectual property &amp; copyright issu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Institutional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Funding agency policie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Embargos for political/commercial reasons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5  Intended future uses/users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3.6  Ci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How should data be cited when used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9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Persistent citation?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662840" indent="-64944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50880" y="969480"/>
            <a:ext cx="11863440" cy="101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</a:rPr>
              <a:t>3. Policies for Access, Sharing, &amp; Reus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16" name="Picture 4" descr="j0289552.jpg"/>
          <p:cNvPicPr/>
          <p:nvPr/>
        </p:nvPicPr>
        <p:blipFill>
          <a:blip r:embed="rId1"/>
          <a:stretch/>
        </p:blipFill>
        <p:spPr>
          <a:xfrm>
            <a:off x="8929800" y="3249720"/>
            <a:ext cx="2838240" cy="4294080"/>
          </a:xfrm>
          <a:prstGeom prst="rect">
            <a:avLst/>
          </a:prstGeom>
          <a:ln w="0">
            <a:noFill/>
          </a:ln>
        </p:spPr>
      </p:pic>
      <p:sp>
        <p:nvSpPr>
          <p:cNvPr id="1217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5ED-0BE4-466A-A167-CD82532BFDC4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650880" y="2249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1  What data will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2  Where will it be preserv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Most appropriate archive fo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mmunity standar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3  Data transformations/formats need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sider archive polic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4.4   Who will be responsibl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Calibri"/>
                <a:ea typeface="ＭＳ Ｐゴシック"/>
              </a:rPr>
              <a:t>Contact person for archiv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3652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595"/>
                </a:solidFill>
                <a:latin typeface="Calibri"/>
                <a:ea typeface="ＭＳ Ｐゴシック"/>
              </a:rPr>
              <a:t>4. Long-term Storage &amp;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1220" name="Picture 4" descr=""/>
          <p:cNvPicPr/>
          <p:nvPr/>
        </p:nvPicPr>
        <p:blipFill>
          <a:blip r:embed="rId1"/>
          <a:stretch/>
        </p:blipFill>
        <p:spPr>
          <a:xfrm>
            <a:off x="10572840" y="4311720"/>
            <a:ext cx="1187280" cy="13078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6" descr=""/>
          <p:cNvPicPr/>
          <p:nvPr/>
        </p:nvPicPr>
        <p:blipFill>
          <a:blip r:embed="rId2"/>
          <a:stretch/>
        </p:blipFill>
        <p:spPr>
          <a:xfrm>
            <a:off x="10193400" y="6267600"/>
            <a:ext cx="1566720" cy="74268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7" descr="lterlogo_blue"/>
          <p:cNvPicPr/>
          <p:nvPr/>
        </p:nvPicPr>
        <p:blipFill>
          <a:blip r:embed="rId3"/>
          <a:stretch/>
        </p:blipFill>
        <p:spPr>
          <a:xfrm>
            <a:off x="8480520" y="3503520"/>
            <a:ext cx="1027080" cy="120816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22" descr="NASA4.jpg"/>
          <p:cNvPicPr/>
          <p:nvPr/>
        </p:nvPicPr>
        <p:blipFill>
          <a:blip r:embed="rId4"/>
          <a:stretch/>
        </p:blipFill>
        <p:spPr>
          <a:xfrm>
            <a:off x="10155240" y="2711520"/>
            <a:ext cx="1241280" cy="126684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9" descr="USGS-Trans.tif"/>
          <p:cNvPicPr/>
          <p:nvPr/>
        </p:nvPicPr>
        <p:blipFill>
          <a:blip r:embed="rId5"/>
          <a:stretch/>
        </p:blipFill>
        <p:spPr>
          <a:xfrm>
            <a:off x="939960" y="7772400"/>
            <a:ext cx="1828800" cy="67464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0" descr=""/>
          <p:cNvPicPr/>
          <p:nvPr/>
        </p:nvPicPr>
        <p:blipFill>
          <a:blip r:embed="rId6"/>
          <a:stretch/>
        </p:blipFill>
        <p:spPr>
          <a:xfrm>
            <a:off x="8745480" y="5391000"/>
            <a:ext cx="14731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26" name="Group 11"/>
          <p:cNvGrpSpPr/>
          <p:nvPr/>
        </p:nvGrpSpPr>
        <p:grpSpPr>
          <a:xfrm>
            <a:off x="3819600" y="7180200"/>
            <a:ext cx="1616040" cy="1658880"/>
            <a:chOff x="3819600" y="7180200"/>
            <a:chExt cx="1616040" cy="1658880"/>
          </a:xfrm>
        </p:grpSpPr>
        <p:pic>
          <p:nvPicPr>
            <p:cNvPr id="1227" name="Picture 10" descr="Screen shot 2010-07-24 at 19.21.45 .png"/>
            <p:cNvPicPr/>
            <p:nvPr/>
          </p:nvPicPr>
          <p:blipFill>
            <a:blip r:embed="rId7"/>
            <a:stretch/>
          </p:blipFill>
          <p:spPr>
            <a:xfrm>
              <a:off x="3819600" y="8109360"/>
              <a:ext cx="149148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  <p:pic>
          <p:nvPicPr>
            <p:cNvPr id="1228" name="Picture 13" descr=""/>
            <p:cNvPicPr/>
            <p:nvPr/>
          </p:nvPicPr>
          <p:blipFill>
            <a:blip r:embed="rId8"/>
            <a:stretch/>
          </p:blipFill>
          <p:spPr>
            <a:xfrm>
              <a:off x="3819600" y="7180200"/>
              <a:ext cx="1616040" cy="729720"/>
            </a:xfrm>
            <a:prstGeom prst="rect">
              <a:avLst/>
            </a:prstGeom>
            <a:ln w="9360">
              <a:solidFill>
                <a:srgbClr val="177f8a"/>
              </a:solidFill>
              <a:miter/>
            </a:ln>
          </p:spPr>
        </p:pic>
      </p:grpSp>
      <p:pic>
        <p:nvPicPr>
          <p:cNvPr id="1229" name="Picture 12" descr="DataONE_South America LOGO.tif"/>
          <p:cNvPicPr/>
          <p:nvPr/>
        </p:nvPicPr>
        <p:blipFill>
          <a:blip r:embed="rId9"/>
          <a:stretch/>
        </p:blipFill>
        <p:spPr>
          <a:xfrm>
            <a:off x="7337520" y="7848720"/>
            <a:ext cx="4043160" cy="966600"/>
          </a:xfrm>
          <a:prstGeom prst="rect">
            <a:avLst/>
          </a:prstGeom>
          <a:ln w="0">
            <a:noFill/>
          </a:ln>
        </p:spPr>
      </p:pic>
      <p:sp>
        <p:nvSpPr>
          <p:cNvPr id="1230" name="Slide Number Placeholder 3"/>
          <p:cNvSpPr/>
          <p:nvPr/>
        </p:nvSpPr>
        <p:spPr>
          <a:xfrm>
            <a:off x="9970920" y="9320040"/>
            <a:ext cx="3033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F0D-7720-422B-84DF-1F2EC876AC98}" type="slidenum">
              <a:rPr b="0" lang="en-US" sz="18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bert Cook</cp:lastModifiedBy>
  <dcterms:modified xsi:type="dcterms:W3CDTF">2011-12-03T20:08:18Z</dcterms:modified>
  <cp:revision>68</cp:revision>
  <dc:subject/>
  <dc:title>ESIP Federation 101</dc:title>
</cp:coreProperties>
</file>